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55B2-ACB2-462E-A49D-E946696C9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566D-07B7-4FEF-8DA9-98F7D9F7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D1B5-CBBF-4521-A258-EF9AA773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857A-E3B1-49A5-8D13-918861D4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D379-BF81-4A54-A53A-56B668A7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25A8-7A81-4219-A2E9-701032DA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E8DD-4FE4-43C5-BD68-56EEB4DC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69CE-4D49-457F-9CBF-2166ABFD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853D-D117-4975-9FEA-B99F884C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85DF-9F9A-4516-8928-3E8B857C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4C13-4F7C-4216-884B-FCD80D80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BEE9-DDB4-489D-92A1-65A9A171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19AE-14A1-4128-B595-21C76F729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Confession (threefold for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rd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Christ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rd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51:59Z</dcterms:created>
  <dc:creator>Anon Anon</dc:creator>
  <dc:description/>
  <dc:language>en-US</dc:language>
  <cp:lastModifiedBy>Anon Anon</cp:lastModifiedBy>
  <dcterms:modified xsi:type="dcterms:W3CDTF">2005-08-09T05:33:41Z</dcterms:modified>
  <cp:revision>9</cp:revision>
  <dc:subject/>
  <dc:title>Confession (threefold form)</dc:title>
</cp:coreProperties>
</file>